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5F9-37EA-449F-9C58-C0A87288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C34-5DC5-4770-8368-09B99D75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14B-24A1-4C56-8EF8-C4F8FE47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B3D-64F8-4D43-B99A-A0823E48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54B-8533-4BE6-8B87-CEA1922A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48D4-2D5D-4B6A-9659-D71FF151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C2B7-7BB7-4383-A367-A74E67D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A268-4D93-4CB7-89AB-E2F8E9D9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D99-B718-4997-A0A3-FEEAA9D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99C-6590-432E-AEA2-2F949B1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C96-6413-49F5-9C43-DEC0D92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D63-1F3A-468F-8D7B-1C71A04F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F43-629A-47C3-A694-71E20DE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B5CB-8B76-4ED4-823C-5A7DA40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0DC6-DCF5-4613-9855-4537ADB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7042-DB2B-4352-8A3F-659E7313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C26C-E455-4E4F-AA70-E59C6D2F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731-BD77-43BC-8341-890620C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AB6-B790-46CD-A840-9BCA05A1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E34-776E-4A1A-B5DB-929074CB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EF4-C49A-4E63-B412-10B4358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3DA-C2D6-470F-B7F7-0525894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CA4-42A5-49E0-B040-771A6DF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9F9-8D63-48A0-94F4-14A1227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5DE-61EE-464D-9AE3-6F92A4747BA0}" type="slidenum"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814-F32E-4B83-957F-8BFE797D850B}" type="slidenum"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字方塊 4"/>
          <p:cNvSpPr/>
          <p:nvPr/>
        </p:nvSpPr>
        <p:spPr>
          <a:xfrm>
            <a:off x="689040" y="2685960"/>
            <a:ext cx="5518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親愛的家長您好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我們將於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*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 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OO:OO~OO:OO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於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XXXXX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舉辦英語競賽，誠摯邀請您一同見證孩子成長共享孩子榮耀時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丹尼互動美語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VVV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校 敬邀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19160" y="4351320"/>
          <a:ext cx="4897440" cy="2749680"/>
        </p:xfrm>
        <a:graphic>
          <a:graphicData uri="http://schemas.openxmlformats.org/drawingml/2006/table">
            <a:tbl>
              <a:tblPr/>
              <a:tblGrid>
                <a:gridCol w="1419120"/>
                <a:gridCol w="3478320"/>
              </a:tblGrid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時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流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9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9:00-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英語朗讀比賽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~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級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9:40-12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比賽與頒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英語朗讀比賽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~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級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3:30-14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英語朗讀比賽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~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級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9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4:10-16: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比賽與頒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英語朗讀比賽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~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級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4" name="直線接點 2"/>
          <p:cNvSpPr/>
          <p:nvPr/>
        </p:nvSpPr>
        <p:spPr>
          <a:xfrm>
            <a:off x="73080" y="7381800"/>
            <a:ext cx="6858000" cy="28800"/>
          </a:xfrm>
          <a:prstGeom prst="line">
            <a:avLst/>
          </a:prstGeom>
          <a:ln w="2844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字方塊 9"/>
          <p:cNvSpPr/>
          <p:nvPr/>
        </p:nvSpPr>
        <p:spPr>
          <a:xfrm>
            <a:off x="945000" y="7518240"/>
            <a:ext cx="729360" cy="368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472c4"/>
                </a:solidFill>
                <a:latin typeface="微軟正黑體"/>
                <a:ea typeface="微軟正黑體"/>
              </a:rPr>
              <a:t>出席回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884160" y="8085240"/>
            <a:ext cx="2700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884160" y="8559720"/>
            <a:ext cx="270000" cy="2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字方塊 12"/>
          <p:cNvSpPr/>
          <p:nvPr/>
        </p:nvSpPr>
        <p:spPr>
          <a:xfrm>
            <a:off x="1342440" y="8035920"/>
            <a:ext cx="15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出席共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_______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字方塊 13"/>
          <p:cNvSpPr/>
          <p:nvPr/>
        </p:nvSpPr>
        <p:spPr>
          <a:xfrm>
            <a:off x="1342800" y="8510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不出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圓角矩形 1"/>
          <p:cNvSpPr/>
          <p:nvPr/>
        </p:nvSpPr>
        <p:spPr>
          <a:xfrm>
            <a:off x="3692520" y="7593120"/>
            <a:ext cx="2765520" cy="1649160"/>
          </a:xfrm>
          <a:prstGeom prst="roundRect">
            <a:avLst>
              <a:gd name="adj" fmla="val 5440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字方塊 14"/>
          <p:cNvSpPr/>
          <p:nvPr/>
        </p:nvSpPr>
        <p:spPr>
          <a:xfrm>
            <a:off x="3876480" y="77104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4472c4"/>
                </a:solidFill>
                <a:latin typeface="微軟正黑體"/>
                <a:ea typeface="微軟正黑體"/>
              </a:rPr>
              <a:t>學生姓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字方塊 15"/>
          <p:cNvSpPr/>
          <p:nvPr/>
        </p:nvSpPr>
        <p:spPr>
          <a:xfrm>
            <a:off x="755640" y="90439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請於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***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*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*</a:t>
            </a:r>
            <a:r>
              <a:rPr b="1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前回覆，謝謝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字方塊 16"/>
          <p:cNvSpPr/>
          <p:nvPr/>
        </p:nvSpPr>
        <p:spPr>
          <a:xfrm>
            <a:off x="3876480" y="8458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4472c4"/>
                </a:solidFill>
                <a:latin typeface="微軟正黑體"/>
                <a:ea typeface="微軟正黑體"/>
              </a:rPr>
              <a:t>家長簽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線接點 2"/>
          <p:cNvSpPr/>
          <p:nvPr/>
        </p:nvSpPr>
        <p:spPr>
          <a:xfrm>
            <a:off x="60480" y="7837560"/>
            <a:ext cx="6858000" cy="28440"/>
          </a:xfrm>
          <a:prstGeom prst="line">
            <a:avLst/>
          </a:prstGeom>
          <a:ln w="2844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6T03:46:28Z</dcterms:created>
  <dc:creator>User</dc:creator>
  <dc:description/>
  <dc:language>en-US</dc:language>
  <cp:lastModifiedBy>user</cp:lastModifiedBy>
  <dcterms:modified xsi:type="dcterms:W3CDTF">2022-11-21T04:30:59Z</dcterms:modified>
  <cp:revision>21</cp:revision>
  <dc:subject/>
  <dc:title>PowerPoint 簡報</dc:title>
</cp:coreProperties>
</file>