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294-527C-4176-AA86-FF28FFD4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E68-92BC-47D9-A60A-002BB9FE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2CC-0068-43C0-B2BA-B43A295A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4F8-9296-435E-923F-9445960C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9E4-18B6-498E-AD35-E29D1954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6E2-31E9-4B98-8C3C-D1430EF4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084-1B98-4A59-B322-9D8AF56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F7F-678B-4BFC-9631-0636AC4F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884-A95B-4679-92C1-EBEB2EDE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52B-D3E6-41D8-9748-AC91798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5DE-1278-47AB-AE72-AD747C4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9DB-4BA2-46E0-BC2D-6D1695A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ACE5-3E40-4790-9835-67EF5CA4D154}" type="slidenum">
              <a:rPr b="0" lang="zh-TW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4"/>
          <p:cNvSpPr/>
          <p:nvPr/>
        </p:nvSpPr>
        <p:spPr>
          <a:xfrm>
            <a:off x="398520" y="3260880"/>
            <a:ext cx="55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親愛的家長您好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我們將於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**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O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O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 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OO:OO~OO:OO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於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XXXXX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舉辦英語競賽，誠摯邀請您一同見證孩子成長共享孩子榮耀時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丹尼互動美語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VVV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校 敬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字方塊 5"/>
          <p:cNvSpPr/>
          <p:nvPr/>
        </p:nvSpPr>
        <p:spPr>
          <a:xfrm>
            <a:off x="914760" y="4952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活動流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79480" y="5402160"/>
          <a:ext cx="4137120" cy="2382840"/>
        </p:xfrm>
        <a:graphic>
          <a:graphicData uri="http://schemas.openxmlformats.org/drawingml/2006/table">
            <a:tbl>
              <a:tblPr/>
              <a:tblGrid>
                <a:gridCol w="1198800"/>
                <a:gridCol w="2938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時間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流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-9: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報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英語朗讀比賽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級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40-12: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賽與頒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英語朗讀比賽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級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30-14: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報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英語朗讀比賽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~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級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:10-16: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賽與頒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英語朗讀比賽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~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級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直線接點 2"/>
          <p:cNvSpPr/>
          <p:nvPr/>
        </p:nvSpPr>
        <p:spPr>
          <a:xfrm>
            <a:off x="73080" y="8012160"/>
            <a:ext cx="6858000" cy="28440"/>
          </a:xfrm>
          <a:prstGeom prst="line">
            <a:avLst/>
          </a:prstGeom>
          <a:ln w="2844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字方塊 9"/>
          <p:cNvSpPr/>
          <p:nvPr/>
        </p:nvSpPr>
        <p:spPr>
          <a:xfrm>
            <a:off x="2726280" y="814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出席回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554040" y="8634240"/>
            <a:ext cx="270000" cy="27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554040" y="9134640"/>
            <a:ext cx="2700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字方塊 12"/>
          <p:cNvSpPr/>
          <p:nvPr/>
        </p:nvSpPr>
        <p:spPr>
          <a:xfrm>
            <a:off x="1146600" y="862488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出席共         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字方塊 13"/>
          <p:cNvSpPr/>
          <p:nvPr/>
        </p:nvSpPr>
        <p:spPr>
          <a:xfrm>
            <a:off x="1129320" y="9102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不出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字方塊 14"/>
          <p:cNvSpPr/>
          <p:nvPr/>
        </p:nvSpPr>
        <p:spPr>
          <a:xfrm>
            <a:off x="4206240" y="85806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學生姓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家長簽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字方塊 15"/>
          <p:cNvSpPr/>
          <p:nvPr/>
        </p:nvSpPr>
        <p:spPr>
          <a:xfrm>
            <a:off x="3552120" y="9522000"/>
            <a:ext cx="30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請於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****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日前回覆，謝謝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直線接點 2"/>
          <p:cNvSpPr/>
          <p:nvPr/>
        </p:nvSpPr>
        <p:spPr>
          <a:xfrm>
            <a:off x="60480" y="8012160"/>
            <a:ext cx="6858000" cy="28440"/>
          </a:xfrm>
          <a:prstGeom prst="line">
            <a:avLst/>
          </a:prstGeom>
          <a:ln w="2844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6T03:46:28Z</dcterms:created>
  <dc:creator>User</dc:creator>
  <dc:description/>
  <dc:language>en-US</dc:language>
  <cp:lastModifiedBy>User</cp:lastModifiedBy>
  <dcterms:modified xsi:type="dcterms:W3CDTF">2022-11-29T03:42:18Z</dcterms:modified>
  <cp:revision>10</cp:revision>
  <dc:subject/>
  <dc:title>PowerPoint 簡報</dc:title>
</cp:coreProperties>
</file>