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9D8-37C1-4E2B-BC41-CD9B54EB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605-6D2B-4A1E-B576-E6A67FD0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B28-AA66-45DC-A89C-3BA521E6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98D-7729-4893-9CB9-0DE4814C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2813-F714-417B-8D04-FBD24636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A238-6D58-49D5-B008-057F0DA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01E-491F-42D2-AF98-1F5CFE5F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D43D-8D5F-483D-A750-53AD4B9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6F0-E415-4CC9-AA09-4F25B74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B1B4-E03B-4948-9349-CF2D491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E39E-72AA-4522-A87D-9A88052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8C3-D527-4633-8753-BB64C98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CD28-D4BF-4758-B345-21E57B3B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1E45-078B-4E8C-83E5-A7E79B67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44F1-F16B-4D6D-A574-5CD6D3A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B7E8-9899-4070-8E4E-70A60626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78FA-DEB0-452E-B4F0-EEDD9ADF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CAC-3256-4AB4-B24C-7271F357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DBF-4E5A-4BC8-80E0-2FCEC6B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B85-9B22-48B4-B9C7-B0CBAED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C3F-0DF5-44C6-B2F9-F4FE4337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535-983A-4FF4-8BC9-CC9E3CE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B40-56DF-4EAC-834E-D8856CE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0F6-7C21-42BF-9362-9A89D3F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4D80-948A-43D5-89B5-00DACB5245E9}" type="slidenum"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3742-DD90-4607-A97A-53A7BDC45C1A}" type="slidenum">
              <a:rPr b="0" lang="zh-TW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字方塊 8"/>
          <p:cNvSpPr/>
          <p:nvPr/>
        </p:nvSpPr>
        <p:spPr>
          <a:xfrm rot="182400">
            <a:off x="2175120" y="5613120"/>
            <a:ext cx="52070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ungee Regular"/>
              </a:rPr>
              <a:t>Spelling  Be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橢圓 3"/>
          <p:cNvSpPr/>
          <p:nvPr/>
        </p:nvSpPr>
        <p:spPr>
          <a:xfrm>
            <a:off x="5000760" y="3182760"/>
            <a:ext cx="1596960" cy="15973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字方塊 4"/>
          <p:cNvSpPr/>
          <p:nvPr/>
        </p:nvSpPr>
        <p:spPr>
          <a:xfrm>
            <a:off x="5157720" y="3368520"/>
            <a:ext cx="134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2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群組 11"/>
          <p:cNvGrpSpPr/>
          <p:nvPr/>
        </p:nvGrpSpPr>
        <p:grpSpPr>
          <a:xfrm>
            <a:off x="2232000" y="4081320"/>
            <a:ext cx="2266920" cy="860760"/>
            <a:chOff x="2232000" y="4081320"/>
            <a:chExt cx="2266920" cy="860760"/>
          </a:xfrm>
        </p:grpSpPr>
        <p:sp>
          <p:nvSpPr>
            <p:cNvPr id="86" name="七邊形 6"/>
            <p:cNvSpPr/>
            <p:nvPr/>
          </p:nvSpPr>
          <p:spPr>
            <a:xfrm>
              <a:off x="2232000" y="4081320"/>
              <a:ext cx="450720" cy="451080"/>
            </a:xfrm>
            <a:custGeom>
              <a:avLst/>
              <a:gdLst/>
              <a:ahLst/>
              <a:rect l="l" t="t" r="r" b="b"/>
              <a:pathLst>
                <a:path w="450819" h="450921">
                  <a:moveTo>
                    <a:pt x="-1" y="289990"/>
                  </a:moveTo>
                  <a:lnTo>
                    <a:pt x="44645" y="89311"/>
                  </a:lnTo>
                  <a:lnTo>
                    <a:pt x="225410" y="0"/>
                  </a:lnTo>
                  <a:lnTo>
                    <a:pt x="406174" y="89311"/>
                  </a:lnTo>
                  <a:lnTo>
                    <a:pt x="450820" y="289990"/>
                  </a:lnTo>
                  <a:lnTo>
                    <a:pt x="325726" y="450923"/>
                  </a:lnTo>
                  <a:lnTo>
                    <a:pt x="125093" y="450923"/>
                  </a:lnTo>
                  <a:lnTo>
                    <a:pt x="-1" y="28999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字方塊 5"/>
            <p:cNvSpPr/>
            <p:nvPr/>
          </p:nvSpPr>
          <p:spPr>
            <a:xfrm>
              <a:off x="2855160" y="411696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拼字大賽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文字方塊 7"/>
          <p:cNvSpPr/>
          <p:nvPr/>
        </p:nvSpPr>
        <p:spPr>
          <a:xfrm>
            <a:off x="1602720" y="7013520"/>
            <a:ext cx="295560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場地：台北國父紀念館大會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時間：上午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9:00~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下午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: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*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天還有抽獎活動，歡迎踴躍參與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DANNY KIDS OO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校 誠摯邀請您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02-2254-57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圖片 10" descr=""/>
          <p:cNvPicPr/>
          <p:nvPr/>
        </p:nvPicPr>
        <p:blipFill>
          <a:blip r:embed="rId1"/>
          <a:stretch/>
        </p:blipFill>
        <p:spPr>
          <a:xfrm rot="21429000">
            <a:off x="866880" y="3661920"/>
            <a:ext cx="2560680" cy="398520"/>
          </a:xfrm>
          <a:prstGeom prst="rect">
            <a:avLst/>
          </a:prstGeom>
          <a:ln w="0">
            <a:noFill/>
          </a:ln>
        </p:spPr>
      </p:pic>
      <p:pic>
        <p:nvPicPr>
          <p:cNvPr id="90" name="圖片 12" descr=""/>
          <p:cNvPicPr/>
          <p:nvPr/>
        </p:nvPicPr>
        <p:blipFill>
          <a:blip r:embed="rId2"/>
          <a:stretch/>
        </p:blipFill>
        <p:spPr>
          <a:xfrm>
            <a:off x="5559480" y="7358040"/>
            <a:ext cx="1017360" cy="1017720"/>
          </a:xfrm>
          <a:prstGeom prst="rect">
            <a:avLst/>
          </a:prstGeom>
          <a:ln w="0">
            <a:noFill/>
          </a:ln>
        </p:spPr>
      </p:pic>
      <p:sp>
        <p:nvSpPr>
          <p:cNvPr id="91" name="文字方塊 13"/>
          <p:cNvSpPr/>
          <p:nvPr/>
        </p:nvSpPr>
        <p:spPr>
          <a:xfrm>
            <a:off x="1701000" y="5014800"/>
            <a:ext cx="36687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參加對象：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Danny Kids 1~7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級學生分級競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日流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上午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9:00~12:10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【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~3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級組報到、比賽與頒獎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下午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: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0~4: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【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~7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級組報到、比賽與頒獎</a:t>
            </a:r>
            <a:r>
              <a:rPr b="1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線接點 15"/>
          <p:cNvSpPr/>
          <p:nvPr/>
        </p:nvSpPr>
        <p:spPr>
          <a:xfrm>
            <a:off x="858960" y="5040360"/>
            <a:ext cx="528948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線接點 16"/>
          <p:cNvSpPr/>
          <p:nvPr/>
        </p:nvSpPr>
        <p:spPr>
          <a:xfrm>
            <a:off x="858960" y="6980400"/>
            <a:ext cx="453528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6T03:46:28Z</dcterms:created>
  <dc:creator>User</dc:creator>
  <dc:description/>
  <dc:language>en-US</dc:language>
  <cp:lastModifiedBy>user</cp:lastModifiedBy>
  <dcterms:modified xsi:type="dcterms:W3CDTF">2022-11-21T04:31:28Z</dcterms:modified>
  <cp:revision>22</cp:revision>
  <dc:subject/>
  <dc:title>PowerPoint 簡報</dc:title>
</cp:coreProperties>
</file>